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D18-50CA-4421-8062-1EDE6568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3A23-D07F-4284-A86F-BCCBB7C7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586-F822-4B32-88D4-B57C8F92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2574-E5AB-4550-8CA3-FAD4B610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7A3B-DDD0-465C-84CE-8CE54593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F38F-E033-470B-8AC7-DB044756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3586-D31D-4FFC-BAE1-16111B4C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20D1-5C86-41EE-A954-A0B72D19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30A6-16C5-40B7-834D-C2A579B4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0391-569F-4903-B269-DDE4E4883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8DA5-B15D-4E4A-A21D-56E364C7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4B2-C05D-47DF-A514-33BADC56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EC51-D1E3-47D6-958B-88EA7475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4592-0A59-42D4-BFBE-B51D95FF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D0BA-03C4-4DF7-A6E2-675AB33D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07BF-5EAF-4DDE-99C9-AF164869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D593-DBE0-4FC0-8B61-A9146A8E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DB8F-82A8-4035-91B8-8B6D424B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FD46A-8D39-4E07-8A0F-0E3F9FB8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A79F3-8788-417B-BD0E-C74BF618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8FFD6-40B9-454F-A40B-BA411A2F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A9E2C-EA11-4A7C-86C7-27738764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D672-1225-4AE1-932B-0DAC6676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BC73A-6747-4ABF-902C-AA3806AE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C1731-4AD0-4477-9854-4F4013A8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C83CA-4E18-49CA-A342-354B0693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0A638-CD15-4ADD-8A44-B015B2AA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DDBB8-82EC-43A8-97F1-5A5E359C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2087F-6741-49BC-A127-4F57F371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0032-8424-430E-BDA9-049A96AD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A3694-F90C-496D-AD56-5BDFD7AC8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9E919-BE02-4F5C-8015-AA2A8A48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DF42B-9842-4100-A2A1-F5880D31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223-88F9-4A15-B6C7-1B039C0F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16B63-C028-4B27-A340-C3722014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1B5D5-0FC6-415B-AF16-65888A55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15289-94B9-4437-BE90-AFC80F37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44911-FDFB-4730-8896-A1C2318E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27E28-C980-40D5-9BED-7C866549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2B95E-1F3E-41DF-8A8D-18D7076D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70E6F-48C1-4093-9534-65FAFCFC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0A21E-EF1F-4CFA-AA33-62511EEF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BB60C-CC3E-47A0-93F0-62CFB5A79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949DA-74E5-4738-B172-9A83F4E1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D33-6AD3-4299-950F-7000E12D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FD4AE-64F9-47BA-BC7C-988F955C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8A05B-ACA7-448B-ABC8-185414C0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A8C4B-2E86-453F-92B6-FCEA7232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8BB51-136F-483F-9675-E07CCDE7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56BE8-607E-405D-938C-1378ECE0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52D9B-2DE1-4239-B079-B713D6C9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08B62-A73A-41B1-81EE-D484E7A8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57840-8305-45C4-8D61-1522B7B3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42461-4A4A-4C0D-9467-327FF66E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14EDD-286D-4E3E-94D1-136C8E7D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5A8-3202-4027-ABE4-75FB57E8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4E4E8-3352-4C13-8F73-8E4413C0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9FF30-DDD9-4357-BB85-820D0468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3DAE3-F3C0-4FFB-A834-DAF994DD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23629-9099-4050-8CF7-43EE874C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81FE6-DAB9-4F26-AE7C-114CA733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1157D-70EF-4474-A5E4-35F66289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C3C1D-DABF-47BB-9FCB-D8DA9CCE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828A8-F0FF-476B-AE2F-EF878BB1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6787D-8310-4BE1-A9B5-F50FEB27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B7F35-D0B5-4B97-B9F7-86668E96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52C-FD66-4FD1-B23B-D835789E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5B1A6-4227-41F1-A32A-188B1005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ADA5F-429A-4F13-8674-C220C9CC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FCB5C-E707-416B-9277-9DC2FAD6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3E1-261D-41C2-996D-CB795411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B4C-1B80-49E8-8C6D-C541C309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a7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SU SCHOOL OF EDU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6E39-4602-429B-A2A2-02334B8887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a7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49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95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96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7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8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9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0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1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2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3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4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5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6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7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8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9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0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1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2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0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BF47-7E54-44B4-BE1F-B26831A23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a7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16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6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16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B3BC-B474-440C-B986-1F17863FB12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a7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0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1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SU SCHOOL OF EDU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2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DA9F-A0CD-4DFC-8413-770E205F0F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a7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258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2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3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4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5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6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7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8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04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305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6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7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8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9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0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1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2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3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4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5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6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7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8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9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0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1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3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4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5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6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7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8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29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E33F-EFE8-4EE5-B74D-776E2FAB6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a7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37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7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37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16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17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18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45C3-DB16-4F1C-92EE-4C0FD898E53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E07C-49B3-4233-BB29-A73559BF6EE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NDERSTANDING BY DESIGN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model of curriculum design for LSSU pre-service and in-service teach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“plan” for unit and lesson planning that addresses the Michigan Entry Level Standards and the National Board Teacher Certification Standa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 opportunity for authentic assessment  for teacher education stud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4800-32CD-4400-A1FA-03B073808B0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ge 1: Implications for teache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istinguish betwee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NOWLEDGE v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DERSTANDING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rganize content aroun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key concept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ow how the big ideas offer a purpose and rationale for the student… the meaningful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nnections to the real worl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alize the need to “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npack” content standard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o make these connection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derstandings summarize the desired insights that we want students to realiz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Footer Placeholder 6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Slide Number Placeholder 7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3EC9-E599-4EF0-A83A-BDD735B546E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nowledge vs. Understa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693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An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UNDERSTANDING 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is an unobvious and important inference, needing “uncoverage” in the unit;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KNOWLEDGE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 is a set of established fact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UNDERSTANDINGS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 make sense of facts, skills, and ideas; they tell us what our knowledge means; they “connect” the dot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Any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UNDERSTANDINGS 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are inherently fallible “theories”;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KNOWLEDGE </a:t>
            </a: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consists of the accepted “facts” upon which a “theory” is based, and the “facts” which a “theory” yield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13BA-73E1-4DC0-9F4B-9D792311D76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 Stages of “Backward” Desig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tage 1: 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IDENTIFY DESIRED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RESULTS.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eaeaea"/>
                </a:solidFill>
                <a:latin typeface="Times New Roman"/>
              </a:rPr>
              <a:t>(What are the big ideas?)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Times New Roman"/>
              </a:rPr>
              <a:t>Stage 2: DETERMINE ACCEPTABLE EVIDENC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00"/>
                </a:solidFill>
                <a:latin typeface="Times New Roman"/>
              </a:rPr>
              <a:t>(How do you know that students have mastered the objectives and goals? What’s the evidence?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tage 3:  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PLAN LEARNING EXPERIENCES AND INSTRUCTION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eaeaea"/>
                </a:solidFill>
                <a:latin typeface="Times New Roman"/>
              </a:rPr>
              <a:t>(How will we get there?)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5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4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" name="Slide Number Placeholder 5"/>
          <p:cNvSpPr/>
          <p:nvPr/>
        </p:nvSpPr>
        <p:spPr>
          <a:xfrm>
            <a:off x="757224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D627-725A-4F5C-B72C-0299F2464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STAGE 2</a:t>
            </a:r>
            <a:r>
              <a:rPr b="0" lang="en-US" sz="4000" spc="-1" strike="noStrike">
                <a:solidFill>
                  <a:srgbClr val="333300"/>
                </a:solidFill>
                <a:latin typeface="Times New Roman"/>
              </a:rPr>
              <a:t>: DETERMINE ACCEPTABLE EVI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at are the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key, complex performance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task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indicative of  understanding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at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other evidence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will be collected to build the case for understanding, knowledge, and skill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at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rubric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will be used to assess complex performance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ooter Placeholder 4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757224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C7C0-272E-4656-A1DF-26DC84998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ments should be credible and helpful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ATIONS: The assessments should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e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grounded in real-world application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 supplemented as needed by more traditional school evidence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vide useful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feedback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the learner, be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transparen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minimize secrecy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e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valid, reliable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– aligned with the desired results of Stage 1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Footer Placeholder 4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757224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F32D-A0F3-4B53-933B-7EA2AAE99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ust because the student “knows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”. .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vidence of understanding is a greater challenge than evidence that the student knows a correct or valid answer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nderstanding is inferred, not see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nderstanding can only be inferred if we see evidence that the student knows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why (it works), how (to apply it) –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not just knowing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specific inference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4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757224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2AF5-7D29-4309-AE36-2AB7734EA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eally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derstand when you ca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plain, connect, systematize, predict 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how its meaning, importanc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pply and adapt it to novel situ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e it as one plausible perspective among others, question its assump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e  it as its author/speaker saw i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void and point out common misconceptions, biases, or simplistic view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ooter Placeholder 4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Slide Number Placeholder 5"/>
          <p:cNvSpPr/>
          <p:nvPr/>
        </p:nvSpPr>
        <p:spPr>
          <a:xfrm>
            <a:off x="757224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86B4-5ECC-4A5C-9A4F-996944EFC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liability in Assessment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napshot vs. Photo Alb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133720" y="2742840"/>
            <a:ext cx="64785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ound assessment (particularly of State Standards) requires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multiple evidence over time – a photo album vs. a single snapshot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4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757224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C0A5-5C01-43BB-B82A-1F84A84EB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types of assessment,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ver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uthentic tasks and projec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cademic exam questions, prompts, and proble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izzes and test item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formal checks for understand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udent self-assessment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Footer Placeholder 4"/>
          <p:cNvSpPr/>
          <p:nvPr/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757224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3395-C85E-4334-873C-C949737F0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sessing for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only way to assess for understanding is via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contextualized performanc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– “applying” in the broadest sense our knowledge and skil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erformance is more than the sum of the drills: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using only conventional quizzes and tests is insufficient and as misleading as relying only on sideline drills to judge athletic performance ability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oter Placeholder 4"/>
          <p:cNvSpPr/>
          <p:nvPr/>
        </p:nvSpPr>
        <p:spPr>
          <a:xfrm>
            <a:off x="228600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6629400" y="64008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4ED1-05FE-4C47-BD3E-7F34A36FB75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1b60f"/>
                </a:solidFill>
                <a:latin typeface="Arial"/>
              </a:rPr>
              <a:t>What are some characteristics of the Understanding by Design (UBD) Model?</a:t>
            </a:r>
            <a:endParaRPr b="0" lang="en-US" sz="3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 stages of “Backward” desig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n-linear design process within a template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erative design process to assure a coherence among all of the elements of the lesson or unit pla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E629-FF24-46E3-B15D-A1DB59C1CC9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3 Stages of “Backward” Desig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tage 1: </a:t>
            </a:r>
            <a:r>
              <a:rPr b="0" lang="en-US" sz="1300" spc="-1" strike="noStrike">
                <a:solidFill>
                  <a:srgbClr val="eaeaea"/>
                </a:solidFill>
                <a:latin typeface="Times New Roman"/>
              </a:rPr>
              <a:t>IDENTIFY DESIRED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eaeaea"/>
                </a:solidFill>
                <a:latin typeface="Times New Roman"/>
              </a:rPr>
              <a:t>RESULTS.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eaeaea"/>
                </a:solidFill>
                <a:latin typeface="Times New Roman"/>
              </a:rPr>
              <a:t>(What are the big ideas?)  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r>
              <a:rPr b="0" lang="en-US" sz="1300" spc="-1" strike="noStrike">
                <a:solidFill>
                  <a:srgbClr val="eaeaea"/>
                </a:solidFill>
                <a:latin typeface="Times New Roman"/>
              </a:rPr>
              <a:t>Stage 2: DETERMINE ACCEPTABLE EVIDENCE.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(How do you know that students have mastered the objectives and goals? What’s the evidence</a:t>
            </a:r>
            <a:r>
              <a:rPr b="1" i="1" lang="en-US" sz="1200" spc="-1" strike="noStrike">
                <a:solidFill>
                  <a:srgbClr val="eaeaea"/>
                </a:solidFill>
                <a:latin typeface="Times New Roman"/>
              </a:rPr>
              <a:t>?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Stage 3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PLAN LEARNING EXPERIENC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ND  INSTRUCTION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How will we get there?)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8CD4-A8E2-44D1-89D3-299351D355B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Stage 3: </a:t>
            </a:r>
            <a:br>
              <a:rPr sz="4000"/>
            </a:br>
            <a:r>
              <a:rPr b="0" lang="en-US" sz="4000" spc="-1" strike="noStrike">
                <a:solidFill>
                  <a:srgbClr val="cc33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Plan Learning Experiences and    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  Instruction with a Focus on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  ENGAGING AND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  EFFECTIVE  Learning </a:t>
            </a:r>
            <a:br>
              <a:rPr sz="3600"/>
            </a:b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  “designed in.”</a:t>
            </a:r>
            <a:br>
              <a:rPr sz="40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62040" y="3565440"/>
            <a:ext cx="7772400" cy="24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learning experiences and instruction will promote the desired understanding, knowledge and skill of Stage 1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F323-3BD1-4EE1-9AA0-4A609C768CF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imes New Roman"/>
              </a:rPr>
              <a:t>Stage 3 – Planning Activities: the “WHERE TO?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-          “Where” are we headed?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 -          How will the student be “hooked”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  -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        What opportunities will there be to be “equipped” and 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    to “experience” and “explore” key idea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-           What will provide opportunities to “rethink,”  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    rehearse, refine, revise?      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 -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  How will students “evaluate” their work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  -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   How will the work be “tailored” to individual needs,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    interests, and learning style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–            How will the work be “organized” for maximum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   engagement and effectivenes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B47D-E087-4143-9DCD-D03F63A9230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 Stages of “Backward” Desig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838080" y="1233360"/>
          <a:ext cx="8007480" cy="511344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tage 1.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DENTIFY DESIRED RESULT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Stage 2. 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ETERMINE ACCEPTABLE EVIDENC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Stage 3</a:t>
                      </a: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. PLAN LEARNING EXPERIENCES / INSTRUCTION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ntent Standards with focus on the enduring understanding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Student assessment task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Learning plan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Constructivist      approach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sential questions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Rubric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tivities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Key resourc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nowledge and Skill /Goal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Other Evidenc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“</a:t>
                      </a: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Hands-on”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ooter Placeholder 6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Slide Number Placeholder 7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A7F2-6D70-48D7-983C-7AA1F28E556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BD TEMPLAT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662040" y="1371600"/>
          <a:ext cx="3809880" cy="51386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51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sed for lesson and unit planning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n-linear use: not necessary to fill in the template “in order”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larifying one element or stage often forces changes to another element or stag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emplate “blueprint” is logical but the process is non-linear and iterative.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herence among the different stag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4624560" y="1371600"/>
          <a:ext cx="3809880" cy="373536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tage 1: Standard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Understandings and Essential Question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tage 2: Assessment Evidence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tage 3: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Learning Activitie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8275-5E88-4264-85ED-C7F9B7D5860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ferences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xt: UNDERSTANDING BY DESIG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y Grant Wiggins and Jay McTigh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bsite: http://www. ubdexchange.or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A740-5997-48C1-B962-F64908FAEC9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ackward” design 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three stages are logical, but they go against habit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’re used to jumping to lesson and activity ideas, before clarifying performance goals for student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y thinking through the assessments upfront, we ensure greater alignment of our goals and  mean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ing is focused on desired result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160A-E4E8-4673-A2F3-3A14453C778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Stages of “Backward” Desig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tage 1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IDENTIFY DESIRED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RESULTS.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(What are the big ideas?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tage 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333300"/>
                </a:solidFill>
                <a:latin typeface="Times New Roman"/>
              </a:rPr>
              <a:t>DETERMINE ACCEPTABLE EVIDENCE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(How do you know that students have mastered the objectives and goals? What’s the evidence?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Stage 3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PLAN LEARNING EXPERIENCES AND 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         INSTRUCTION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(How will we get there?)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60F2-1DEB-46C4-A291-7DF48D8C4F5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3 Stages of “Backward” Desig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838080" y="1233360"/>
          <a:ext cx="8007480" cy="5113440"/>
        </p:xfrm>
        <a:graphic>
          <a:graphicData uri="http://schemas.openxmlformats.org/drawingml/2006/table">
            <a:tbl>
              <a:tblPr/>
              <a:tblGrid>
                <a:gridCol w="2668680"/>
                <a:gridCol w="2670120"/>
                <a:gridCol w="2668680"/>
              </a:tblGrid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tage 1.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DENTIFY DESIRED RESULT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Stage 2. </a:t>
                      </a:r>
                      <a:r>
                        <a:rPr b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DETERMINE ACCEPTABLE EVIDENC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Stage 3</a:t>
                      </a: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. PLAN LEARNING EXPERIENCES / INSTRUCTION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ontent Standards with focus on the enduring understanding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Student assessment task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Learning plan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Constructivist      approach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sential questions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Rubric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Activities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Key resourc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nowledge and Skill /Goal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333300"/>
                          </a:solidFill>
                          <a:latin typeface="Times New Roman"/>
                        </a:rPr>
                        <a:t>Other Evidenc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cc"/>
                        </a:buClr>
                        <a:buSzPct val="9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 “</a:t>
                      </a:r>
                      <a:r>
                        <a:rPr b="0" i="1" lang="en-US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Hands-on”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20C5-45DD-4CD9-9A87-5DA0F3E80CA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Stages of “Backward” Desig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age 1: IDENTIFY DESIRED RESULTS.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What are the big ideas?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Stage 2: </a:t>
            </a: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DETERMINE ACCEPTABLE EVIDENCE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How do you know that students have mastered the objectives and goals? What’s the evidence?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Stage 3: </a:t>
            </a: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PLAN LEARNING EXPERIENCES AND INSTRUCTION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(How will we get there?)</a:t>
            </a: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A300-0E5F-4967-AE87-456CD060592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ge 1: Identify the desired resul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Enduring Understandings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hat specific insights about big ideas do we want students to leave with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hat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essential questions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will frame the teaching and learning, pointing toward key issues and ideas, and suggest meaningful and provocative inquiry into conten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hat should students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know and be able to do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hat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content standards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are addressed explicitly by the unit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B600-AB90-4C01-9724-35C766DA537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SSENTIAL QUESTION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What questions…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re arguable – and important to argue about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re at the heart of a subject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ecur – and should recur – in professional work, adult life, as well as in classroom inquir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raise more questions – provoking and sustaining engaged inquir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often raise important conceptual or philosophical issue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an provide organizing purpose for meaningful and connected learning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LSSU SCHOOL OF EDUCATION 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BBDD-44CF-44D1-AB0D-25FDD2B3A03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ampl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ssential questions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government’s proper rol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what extent is geography destin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different is a scientific theory from a plausible belief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hould an axiom be obviou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es a “good read” differ from a “great book”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14:17:37Z</dcterms:created>
  <dc:creator> </dc:creator>
  <dc:description/>
  <dc:language>en-US</dc:language>
  <cp:lastModifiedBy>Northfield Board of Education</cp:lastModifiedBy>
  <dcterms:modified xsi:type="dcterms:W3CDTF">2010-01-19T21:09:55Z</dcterms:modified>
  <cp:revision>50</cp:revision>
  <dc:subject/>
  <dc:title>UNDERSTANDING BY DESIGN LSSU School of Education</dc:title>
</cp:coreProperties>
</file>